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B9F-D59D-4603-A677-48078C82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54F-FEA5-4CCD-900A-D04FA98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7E8-DF54-4EE7-8717-FEBFDB0B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942-15F0-4E15-9A60-D956F822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383F-1435-48C1-8C73-DB301BFC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603A-7491-4B22-828C-EC82483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64B0-74AF-41AE-8FCA-1AE8A4E5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FE7F-E382-4F07-BFB4-3F81178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AFD-C76A-4C55-A404-F79B10F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F173-C7D9-4BE9-A1FA-959F610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115D-5AA7-48F9-AA99-9002993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A8D-5F86-4A80-8344-5CA2A11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11C0-25A3-4F24-9CC2-14313DE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ED3-F698-4A34-8150-C61D294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339C-2823-4572-A14A-80F4C42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FF92-444E-4BD9-9F0D-2D26F013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6EC-321B-4867-BC06-4B0F9C79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EE79B-A22A-47C4-B000-B3E44085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46247-95A6-4F87-B730-8671700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CC848-233C-4948-AD73-8B9C8D07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E64A8-0535-4F32-901C-8FD29E10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B05FA-5990-493D-8E16-C84D3B9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9D7-36DE-4E86-AAE0-F84BD6E2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3ACDF-CEA3-4FEF-8AD7-F791C2C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2526B-58EF-4CCB-B3A2-D06AD84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B665-0B93-49E2-9193-2855111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16C4D-9A38-4188-9EF6-9DC32B3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0010F-0374-4592-99A3-15AA18D5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74D62-B245-4EB5-92A0-C348C714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F8C15-5AE3-46C4-BCB7-5DB313F2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CB27-7F47-48DF-80A2-41CF5FD0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DE6E-B093-468B-B99C-081A8C5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D664-6FB7-497B-B734-8BAA2C3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4EF-1634-4237-93CE-FCE6F78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C74D-127B-4F80-A931-54BE3C9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7313-725A-42A6-8A60-ABBE1508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70A9-B525-4CE7-8D78-9515AF4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82A3-485D-432B-9AA5-4986F05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CE73-DF0B-4A04-A135-C77AB90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83BD-2E30-423E-A3E5-606FE5B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17A1-7058-49D8-A144-82DE3D4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6FE1-B2A0-4F8E-A043-F11E9C1D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489D-22D4-43A3-BC44-94698882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72EA6-A4DE-4894-B5A5-DBF9228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85D-A02C-497D-B4E6-12FF9C7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59A76-AA0D-4DEA-985D-4B5408D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BCBFE-758B-4362-8393-8E63C331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3E2E3-D032-4CE3-B3BB-FA99EF1A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9572D-E299-4BBD-95CD-DE5F97E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7385C-0255-49C8-86AA-245685B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B332D-F2A6-46DF-A258-0DB3042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DC565-4572-49D7-8D3C-7D6AF4F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C39D5-CE70-4105-96AA-24A6490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0B266-C0A7-4C63-80A2-24AC985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145AC-5326-4B48-B697-2D56D060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14F-DE42-4884-A95A-08716EEC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94204-CE92-4166-8CD8-72F122E8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999A2-46CE-412D-9729-10DF4423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22EC9-D2B8-42B3-BE60-953B923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62A40-33EC-43F2-BE8B-104B60E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4033D-70D8-43A8-B0FA-9D7E13C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C8F86-6833-4421-A2A1-B2472958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4A9A2-C649-4846-8A54-0CBA055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85E3A-92E5-43F4-B453-40B90B2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832C8-B7D4-4BAD-902E-B5B86B5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7EBBB-206B-4EC1-A348-B4C87D9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310-3353-4850-AC8E-748D376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84BFD-5541-4CE6-A316-167BD81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215F4-9322-46A5-8709-DCB423D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6FB0F-6C98-45EB-9DCE-22F1559E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991B2-0F51-4DA1-B25C-F992975E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68469-6BA9-4195-B226-88C8C20F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A1B54-2A5D-480E-A96D-00D92D3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030AD-4F79-4FBC-9AAC-DCC25B0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5DB7A-23CB-4074-98C0-4563003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EE41F-A7A7-4DCE-93BF-E952A33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250FE-B4E0-4049-8DA5-459AB64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86-68F1-4423-A40C-F6F034F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D1EE2-839B-4E6A-AB31-27320C5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053C6-1710-46B5-ADA5-6775220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1DE70-7384-4D38-ACC1-BA1B96A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B6FE7-0C82-4B2E-8677-AC0D953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DEE76-FEF5-4FBE-BAB9-B5FBD0C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353-97DD-48A0-B43B-696034E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59B-2726-4F64-9C4B-0EF11065D9D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18B-8C52-4F42-B3A6-2F6A07DEBF9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53C6-87AA-40A1-BC30-2607E5D45BA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8F59-B5E2-43B5-90D7-926967E4582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329-B504-4EA3-885C-BE91E29D11B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470-97FD-42EA-8876-9ED5A5A7BC5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9129-AB73-4B6F-A27B-EF212E09C50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Tema 25 - Avaliação com o uso das Tecnologias Educacionai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EE.JOSÉ ALVES QUITO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PROGETEC: GEOVANI VILEL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CORGUINHO-M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AVALIAÇÃO COM USO DAS TECNOLOGIA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 uso das tecnologias na avaliação é processo muito importante, porque e traz diversos fatores que somam na aprendizagem dos alun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ção com usos das Tecnologias precisa ser eficaz e monitorada pelo educador, sendo mediante da aprendizagem tecnológi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ORIENTAÇÕES AOS PROFESSOR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erificar o conhecimento de mundo dos alun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tigar os alunos a serem participativ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rabalhar com redes de aprendizagem on-line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envolver a habilidades de produções 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PROCESSO DE AVALIAÇÃO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ção diária 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ocessua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omativ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ormativ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0:32:08Z</dcterms:created>
  <dc:creator>PARTICULAR</dc:creator>
  <dc:description/>
  <dc:language>en-US</dc:language>
  <cp:lastModifiedBy>PARTICULAR</cp:lastModifiedBy>
  <dcterms:modified xsi:type="dcterms:W3CDTF">2015-09-01T00:51:30Z</dcterms:modified>
  <cp:revision>4</cp:revision>
  <dc:subject/>
  <dc:title>Slide 1</dc:title>
</cp:coreProperties>
</file>